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AB6-FF81-4EF8-8FB0-96D52DDE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8DA-C1E0-4B3E-8F57-2418A1C8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980-C5D1-4C08-9EDC-FF0FC6AF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855-5176-4849-A361-34A8863B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97AD-EBFA-4CC0-889C-03C562F7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4B59-3A5C-479B-B707-A0EC01C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3DD3-F525-43B6-9FC4-05B3ACF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036A-B33C-412B-974F-F7E71A0C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E69-8261-4548-B6FB-B2EC3AA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32A3-7184-46B4-B883-6034F30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BBE9-2505-4E46-841A-65A867F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E7A-4DFB-401A-881C-8611BBB3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4B3B-4728-4985-9B84-DDFC0DB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647D-968E-4D50-89BD-4F38FB76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85DD-94A6-49B4-A5F0-1E737A7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B8D8-04A0-43D9-8A85-002EB0A4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BCC4-0BD4-4312-92A7-DE0DF1EA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287-E63D-4A82-86B2-A445A05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09F-D918-4080-9E21-CF2A7119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C3A-DCA0-485E-A66E-0CE22891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20D-9850-4A0F-877E-879F22DA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AF9-8535-4AB1-8B45-BCED3A3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629-6CAE-4AE7-9929-6646BA1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94E-D99A-4956-8918-14C0C3D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EC55-33A4-4973-BC5A-98725185AF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079-EE3C-4664-8D9D-0E611886026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l-SI" sz="4400" spc="-1" strike="noStrike">
                <a:solidFill>
                  <a:srgbClr val="ffff00"/>
                </a:solidFill>
                <a:latin typeface="Arial"/>
              </a:rPr>
              <a:t>DIJAGNOSTIKA I NEOPERATIVNI TRETMAN INVAGINACIJA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REVA KOD DE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0720" y="42667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D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an Paunovi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4572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 postoje</a:t>
            </a: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ć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m ta</a:t>
            </a: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č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m vodilj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5800" y="1727280"/>
            <a:ext cx="3809880" cy="428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4856040" y="1641600"/>
            <a:ext cx="339408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Prikaz sluča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U kasnim popodnevnim satima roditelji dovode dobro uhranjeno muško odojče(uzrast 7 meseci) zbog bola u predelu trbuha, praćen sa povraćanj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Iz anamnze: dečak je do prošle nedelje imao respiratornom infekcijom(akutna upala ždrela). Lečen antibiotikom( Pancef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  <a:ea typeface="Arial"/>
              </a:rPr>
              <a:t>KLINIČKA SLIK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Bolest počela naglo. Dečak igrajući se u svom krevetcu odjednom zaplaka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Vrlo brzo se smirio i nastavio sa igr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Pola sata nakon toga dečak je ponovo zaplak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 ali s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aće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mirom,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čem, grčenjem nožica i bledil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Nakon toga je jednom pov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Roditelje je uznemirilo prisustvo krvi u stol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Javljaju nadležnom lekaru koji ih upućuje dec.hirurg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Karakteristike bo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l nastaje naglo iz "punog" zdravlj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arakter bola je intermitentna kolika; veoma je jak i ne traje dugo, a praćen je bledilom i hladnim znojenjem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Bo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glo prestaje i ustupa mesto mirnoj fazi u kojoj se dete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naša  normaln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Kako bolest odmiče bol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ze su češce, a faze mirovanja sve krać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Povraćan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vraćanje se javlja skoro kod svih bolesnika i u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etku bolesti je refleksno bez primesa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žuč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U zapuštenim slučajevima ,sa razvojem opstrukcije povraćanje je sa primesom žuč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Krv u stolic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Krv u stolici može se javiti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eć nakon prva dva do tri sa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omešana sa sluzi daje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čan izgled "želea od ribizli"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d uznapredovalih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čajeva crevne opstrukcije u stolici može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naći čista i sveža kr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v u stolici kod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aginacije otkriva se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kon rektalnog tuš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-30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Fizikalni preg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Pregledom smo videl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alpatorno trbuh je mek, u ravni grudnog koš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Strpljivim pregledoms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zmedju bolnih atak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desnoj polovini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buha,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palpiral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basičast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kretn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sa (tzv. "buden"), koji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ini invaginat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Rektalni pregled pozitivan na k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K</a:t>
            </a:r>
            <a:r>
              <a:rPr b="1" lang="sr-Latn-R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nije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: Distenzija abdomena(</a:t>
            </a:r>
            <a:r>
              <a:rPr b="0" lang="sr-Latn-RS" sz="2400" spc="-1" strike="noStrike">
                <a:solidFill>
                  <a:srgbClr val="c00000"/>
                </a:solidFill>
                <a:latin typeface="Times New Roman"/>
              </a:rPr>
              <a:t>posledica postojanja potpune crevne opstrukcije )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 rigiditet prednjeg trbušnog </a:t>
            </a:r>
            <a:r>
              <a:rPr b="0" lang="sr-Latn-RS" sz="2400" spc="-1" strike="noStrike">
                <a:solidFill>
                  <a:srgbClr val="c00000"/>
                </a:solidFill>
                <a:latin typeface="Times New Roman"/>
              </a:rPr>
              <a:t>zida(peritonitis kao posledica intestinalne gangrene ili perforacije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ektalni pregled: rektalni prolaps invagin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Indikovana hospitalizaci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Pl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Venska lini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Rehidrac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Laboratorijska obrada( osnovne analiz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Dijagno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  <a:ea typeface="Arial"/>
              </a:rPr>
              <a:t>DIJAGNOSTIK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  <a:ea typeface="Arial"/>
              </a:rPr>
              <a:t>Klinički preg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  <a:ea typeface="Arial"/>
              </a:rPr>
              <a:t>Ultrazvučni pregle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  <a:ea typeface="Arial"/>
              </a:rPr>
              <a:t>RTG – nativni snimak abdomena (moguća slika ileusa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Ultrazvučni preg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  <a:ea typeface="Arial"/>
              </a:rPr>
              <a:t>Ultrazvučni nalaz na parenhimskim organima trbuha uredan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U desnom ileocekalnom pregledu opisa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  <a:ea typeface="Arial"/>
              </a:rPr>
              <a:t>target sign«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poprerčni pre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  <a:ea typeface="Arial"/>
              </a:rPr>
              <a:t>»pseudokidney sign«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uzdužni pre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  <a:ea typeface="Arial"/>
              </a:rPr>
              <a:t>pre i poststenotično dilatirane crevne vijuge, ispunjene tečnošć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  <a:ea typeface="Arial"/>
              </a:rPr>
              <a:t>Izmedju crevnih vijuga prisutna slobodna teč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9820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aginacija (intussusceptio) je patološko stanje koje je izazvano uvlačenjem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i  uvrtanj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ksimalnog (invaginatum )dela creva zajedno s pripadajućim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zenterij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u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 u distalni d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E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 invaginans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790960" cy="3925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Content Placeholder 4" descr=""/>
          <p:cNvPicPr/>
          <p:nvPr/>
        </p:nvPicPr>
        <p:blipFill>
          <a:blip r:embed="rId1"/>
          <a:stretch/>
        </p:blipFill>
        <p:spPr>
          <a:xfrm>
            <a:off x="655560" y="1641600"/>
            <a:ext cx="3781440" cy="360972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5" descr=""/>
          <p:cNvPicPr/>
          <p:nvPr/>
        </p:nvPicPr>
        <p:blipFill>
          <a:blip r:embed="rId2"/>
          <a:stretch/>
        </p:blipFill>
        <p:spPr>
          <a:xfrm>
            <a:off x="4648320" y="1641600"/>
            <a:ext cx="3809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seudokidney 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Content Placeholder 6" descr=""/>
          <p:cNvPicPr/>
          <p:nvPr/>
        </p:nvPicPr>
        <p:blipFill>
          <a:blip r:embed="rId1"/>
          <a:stretch/>
        </p:blipFill>
        <p:spPr>
          <a:xfrm>
            <a:off x="685800" y="2109960"/>
            <a:ext cx="3962520" cy="286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2288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Nativni RTG abdome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U ovom slučaju nepotreban jer je dijagnoza postavljena: klinička slika, fizikalni pregled, ultrazvučni nala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Potrebno je uraditi k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1.zapuštenih slučaj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2.sumnje na perforaciju cr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  <a:ea typeface="Arial"/>
              </a:rPr>
              <a:t>TERAPIJ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Pla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sl-SI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fff00"/>
                </a:solidFill>
                <a:latin typeface="Arial"/>
                <a:ea typeface="Arial"/>
              </a:rPr>
              <a:t>NEOPERATIVNiI TRETM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rostatska redukcija pod kontrolom ultra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zvu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Kontraindikacije za ovaj tretman s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i="1" lang="sl-SI" sz="1800" spc="-1" strike="noStrike">
                <a:solidFill>
                  <a:srgbClr val="ffffff"/>
                </a:solidFill>
                <a:latin typeface="Arial"/>
                <a:ea typeface="Arial"/>
              </a:rPr>
              <a:t>psolut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  <a:ea typeface="Arial"/>
              </a:rPr>
              <a:t>klinički znaci peritoniti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neumoperitone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modinamska nestabiln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l-SI" sz="1800" spc="-1" strike="noStrike">
                <a:solidFill>
                  <a:srgbClr val="ffffff"/>
                </a:solidFill>
                <a:latin typeface="Arial"/>
              </a:rPr>
              <a:t>relativne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aktično ne postoje (bez obzira na dužinu trajanja invaginacije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00"/>
                </a:solidFill>
                <a:latin typeface="Arial"/>
              </a:rPr>
              <a:t>2. OPERATIVNI TRET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Ukoliko neoperativni ne bude uspes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  <a:ea typeface="Arial"/>
              </a:rPr>
              <a:t>TERAPIJ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Arial"/>
              </a:rPr>
              <a:t>S obzirom da nisu postojale kontraindikacije primenili s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IDROSTATSKU REDUKCIJU POD </a:t>
            </a:r>
            <a:r>
              <a:rPr b="1" lang="sl-SI" sz="20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l-SI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ONTROLOM U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Hidrostatskoj redukciji prethodi korekcija elektrolitnog disbalansa i spremna hirurška sala i ekip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ziološkim rastvorom kroz rektalni kateter –  ultrazvukom se prati kretanje tečnosti do prepreke, do momenta kada se slika invaginata izgub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roz kolon koji je ispunjen tečnošću dolazimo de cekuma, vidi Bauhinijeva valvul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kon toga tečnost prolaz cekum i ulazi u ile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pešnost dezinvaginacije potvrdj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- odsustvo invagin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-tečnost u tankim crev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6" name="Picture 2" descr="C:\Users\Gygabyte\Desktop\Clip.jpg"/>
          <p:cNvPicPr/>
          <p:nvPr/>
        </p:nvPicPr>
        <p:blipFill>
          <a:blip r:embed="rId1"/>
          <a:stretch/>
        </p:blipFill>
        <p:spPr>
          <a:xfrm>
            <a:off x="0" y="0"/>
            <a:ext cx="4114800" cy="372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Gygabyte\Desktop\mmmmmm.jpg"/>
          <p:cNvPicPr/>
          <p:nvPr/>
        </p:nvPicPr>
        <p:blipFill>
          <a:blip r:embed="rId2"/>
          <a:stretch/>
        </p:blipFill>
        <p:spPr>
          <a:xfrm>
            <a:off x="0" y="327672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67080" y="0"/>
            <a:ext cx="4148280" cy="3124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:\Users\Gygabyte\Desktop\Clip4.jpg"/>
          <p:cNvPicPr/>
          <p:nvPr/>
        </p:nvPicPr>
        <p:blipFill>
          <a:blip r:embed="rId4"/>
          <a:stretch/>
        </p:blipFill>
        <p:spPr>
          <a:xfrm>
            <a:off x="434340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REDNOSTI HIDROSTATSKE REDUKCIJE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23960" y="21337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Arial"/>
                <a:ea typeface="Arial"/>
              </a:rPr>
              <a:t>brza, jednostavna i neinvazivna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pe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  <a:ea typeface="Arial"/>
              </a:rPr>
              <a:t>š</a:t>
            </a:r>
            <a:r>
              <a:rPr b="0" lang="sl-SI" sz="3600" spc="-1" strike="noStrike">
                <a:solidFill>
                  <a:srgbClr val="ffffff"/>
                </a:solidFill>
                <a:latin typeface="Arial"/>
                <a:ea typeface="Arial"/>
              </a:rPr>
              <a:t>na u 70 – 90 % slučajeva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dostup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ez rendgenskog zra</a:t>
            </a: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čenja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Arial"/>
                <a:ea typeface="Arial"/>
              </a:rPr>
              <a:t>izbegavanje operacije i mogućih operativnih komlikacija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Arial"/>
              </a:rPr>
              <a:t>ekonomski opravda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ZAKLJUČAK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razvu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čni pregl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senzitivna 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suverena metoda za dijagnostiku invaginaci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eva kod dece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Kod svakog pacijenta sa dijagnostikovanom invaginacijom creva kao prvi korak u tretmanu treba preduzeti hidrostatsku redukciju pod kontrolom ultrazvu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7" descr="0000invaginacija"/>
          <p:cNvPicPr/>
          <p:nvPr/>
        </p:nvPicPr>
        <p:blipFill>
          <a:blip r:embed="rId1"/>
          <a:stretch/>
        </p:blipFill>
        <p:spPr>
          <a:xfrm>
            <a:off x="2100240" y="1641600"/>
            <a:ext cx="49435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Učestalo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aginacija se javlja najčešce u prvoj godini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vi-VN" sz="2400" spc="-1" strike="noStrike">
                <a:solidFill>
                  <a:srgbClr val="ffffff"/>
                </a:solidFill>
                <a:latin typeface="Times New Roman"/>
              </a:rPr>
              <a:t>života kod dva do četiri deteta od hiljadu rođenih (2-4%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vi-VN" sz="2400" spc="-1" strike="noStrike">
                <a:solidFill>
                  <a:srgbClr val="ffffff"/>
                </a:solidFill>
                <a:latin typeface="Times New Roman"/>
              </a:rPr>
              <a:t>Pojava oboljenja posebno je izražena između petog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devetog meseca života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Češć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dečaka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 odnosu na devojčice (3: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ezonski karak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prvi skok u prolećno-letnjem periodu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oincidira sa povećanim brojem crevnih infekcija i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rugi skok u zimskom dobu (respiratorne infekcie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Etiologi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aginacija je najčešće idiopats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otovo 93% invaginacija je nepoznato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zroka. Najčešće se povezuj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 virusnim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ekcijama respiratornog ili intestinalnog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rak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Te infekcije su uzro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pertrofiji Peyerovih ploča terninalnog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leuma koje u dobu odojčeta smatramo jednim od glavnih uzroka invaginaci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prilog takvom razmišljanju ide i najveća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dencija invaginacija u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ecima kad su takve infekcije najčešć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50% dece s gastroenteritisima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kojih se razvila invaginacija izolovani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u adeno i rota viru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ogenez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oksimalni deo creva zajedno 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disponirajućim patološkim supstratom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ntussusceptum) biva anterogradnom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staltikom uvučen (invaginiran)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distalni dio creva (intussuscipie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im aktom ne bude invaginirano samo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revo, nego i mezenterijum proksimalno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a crijeva zajedno s krvnim 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sudov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lačenjem creva u crevo dolazi do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haničke opstrukcije lumena creva i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ovremeno strangulacije najpre venskog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ste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vaginiranog mezenterij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ledica svega je edem crijeva, s jakim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zlučivanjem sluz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</a:rPr>
              <a:t>asnije opstrukcija arterijskog sistema što vodi ishemiji nekrozi i pojavi malinaste stolice( prvo podležu unutrašnji slojevi invaginacij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00"/>
                </a:solidFill>
                <a:latin typeface="Times New Roman"/>
              </a:rPr>
              <a:t>Patofiziološki cikl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Diagram 7"/>
          <p:cNvGrpSpPr/>
          <p:nvPr/>
        </p:nvGrpSpPr>
        <p:grpSpPr>
          <a:xfrm>
            <a:off x="1909440" y="2071800"/>
            <a:ext cx="5324400" cy="3193200"/>
            <a:chOff x="1909440" y="2071800"/>
            <a:chExt cx="5324400" cy="3193200"/>
          </a:xfrm>
        </p:grpSpPr>
        <p:sp>
          <p:nvSpPr>
            <p:cNvPr id="109" name="_s1028"/>
            <p:cNvSpPr/>
            <p:nvPr/>
          </p:nvSpPr>
          <p:spPr>
            <a:xfrm>
              <a:off x="2760840" y="2071800"/>
              <a:ext cx="3620880" cy="217188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2171880"/>
                <a:gd name="textAreaBottom" fmla="*/ 2172240 h 21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29"/>
            <p:cNvSpPr/>
            <p:nvPr/>
          </p:nvSpPr>
          <p:spPr>
            <a:xfrm rot="5400000">
              <a:off x="4336920" y="1857240"/>
              <a:ext cx="2172240" cy="3621600"/>
            </a:xfrm>
            <a:custGeom>
              <a:avLst/>
              <a:gdLst>
                <a:gd name="textAreaLeft" fmla="*/ 0 w 2172240"/>
                <a:gd name="textAreaRight" fmla="*/ 2172600 w 2172240"/>
                <a:gd name="textAreaTop" fmla="*/ 0 h 3621600"/>
                <a:gd name="textAreaBottom" fmla="*/ 3621960 h 362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030"/>
            <p:cNvSpPr/>
            <p:nvPr/>
          </p:nvSpPr>
          <p:spPr>
            <a:xfrm rot="10800000">
              <a:off x="2760840" y="3093120"/>
              <a:ext cx="3620880" cy="217188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2171880"/>
                <a:gd name="textAreaBottom" fmla="*/ 2172240 h 21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31"/>
            <p:cNvSpPr/>
            <p:nvPr/>
          </p:nvSpPr>
          <p:spPr>
            <a:xfrm rot="16200000">
              <a:off x="2633760" y="1857960"/>
              <a:ext cx="2172240" cy="3620880"/>
            </a:xfrm>
            <a:custGeom>
              <a:avLst/>
              <a:gdLst>
                <a:gd name="textAreaLeft" fmla="*/ 0 w 2172240"/>
                <a:gd name="textAreaRight" fmla="*/ 2172600 w 2172240"/>
                <a:gd name="textAreaTop" fmla="*/ 0 h 3620880"/>
                <a:gd name="textAreaBottom" fmla="*/ 3621240 h 362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>
              <a:off x="2243160" y="2273760"/>
              <a:ext cx="13633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omic Sans MS"/>
                </a:rPr>
                <a:t>Limfna staz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033"/>
            <p:cNvSpPr/>
            <p:nvPr/>
          </p:nvSpPr>
          <p:spPr>
            <a:xfrm>
              <a:off x="5533560" y="2271960"/>
              <a:ext cx="136332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omic Sans MS"/>
                </a:rPr>
                <a:t>Venska staz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5536440" y="4245480"/>
              <a:ext cx="13633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omic Sans MS"/>
                </a:rPr>
                <a:t>Aretrijski zasto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2245680" y="4247280"/>
              <a:ext cx="136368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omic Sans MS"/>
                </a:rPr>
                <a:t>Nekroz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00"/>
                </a:solidFill>
                <a:latin typeface="Times New Roman"/>
              </a:rPr>
              <a:t>Prema odnosu intususceptuma i intususpeiensa razlikujemo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eo-cekalna invaginaci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Tank-ocrevn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vaginacij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Ileo-ceko-količna invaginacij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Kolo-količna invaginacija je izuzetno retka</a:t>
            </a: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8539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rimarne invaginacije- bez postojećeg patoanatomskog substrata kao tačka vodi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Sekundarne invaginacije sa postojećim patoanatomskim substratom kao tačka vodi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invaginacija"/>
          <p:cNvPicPr/>
          <p:nvPr/>
        </p:nvPicPr>
        <p:blipFill>
          <a:blip r:embed="rId1"/>
          <a:stretch/>
        </p:blipFill>
        <p:spPr>
          <a:xfrm>
            <a:off x="5638680" y="3581280"/>
            <a:ext cx="323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02:39Z</dcterms:created>
  <dc:creator>Dragoslav Parabucki</dc:creator>
  <dc:description/>
  <dc:language>en-US</dc:language>
  <cp:lastModifiedBy>Win7</cp:lastModifiedBy>
  <dcterms:modified xsi:type="dcterms:W3CDTF">2021-01-19T14:45:25Z</dcterms:modified>
  <cp:revision>91</cp:revision>
  <dc:subject/>
  <dc:title>INVAGINACIJE – DIJAGNOSTIKA I NEOPERATIVNI TRETMAN</dc:title>
</cp:coreProperties>
</file>